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3CD-6C71-4CE3-B724-708B9863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73C-486C-4109-88A7-348121A8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CE9-5471-4652-BB3F-0E0D689A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926-9A44-44E2-8B2F-A69F0391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3E1-F10A-4245-90FB-74DABED9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4F8-B32A-4399-8223-2787FD0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588-CA85-4457-AA69-9B8C5ED4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5B9-0BF6-455F-9542-54F875B1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CA2-87A9-4821-B339-2649BEE1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714-A2BD-4BF7-AACF-9F4E740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8E9-F553-4F90-88DD-9FCE2872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228-A229-47D5-B0FD-7F6785C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1BA9-193A-44E8-B28D-DE1DF0AF6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04760" y="1152360"/>
            <a:ext cx="10056960" cy="462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806720" y="6718320"/>
            <a:ext cx="496404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Автор: Канева Зоя Александ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47840"/>
            <a:ext cx="403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Методическая презен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0560" y="447840"/>
            <a:ext cx="9118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сновополагающий вопрос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Как мы тратим своё время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ные вопрос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1.Почему мы ничего не успеваем?</a:t>
            </a:r>
            <a:br>
              <a:rPr sz="3100"/>
            </a:b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2.На что мы тратим большую часть времени?</a:t>
            </a:r>
            <a:br>
              <a:rPr sz="3100"/>
            </a:b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3. Возможно ли управлять временем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чебные предметы: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математика и информати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частники: 7 класс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0560" y="447840"/>
            <a:ext cx="908712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идактические цели проект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Научить находить статистические характеристики(среднее арифметическое, моду, медиану, размах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Сформировать представления о статистических исследованиях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Сформировать навыки самостоятельной работы, работы в команде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Воспитать организованность, самостоятельность, самоконтроль, ответственность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0120" y="447840"/>
            <a:ext cx="89596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Учебные вопросы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Как можно рассчитать затраченное время?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акие статистические характеристики используют для расчёта времени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Какой способ используют для наглядного представления времени, затраченного на пользу и попусту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. сколько времени мы тратим на развлечения, на здоровье, на учёбу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. сколько времени у нас уходит на пользу и сколько попусту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. Статистические данные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7. Представление данных в виде таблиц, диаграмм, граф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0560" y="1876320"/>
            <a:ext cx="908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представления исследований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